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B25-E414-42DA-A357-69EBED03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7E8-556D-4CFD-9454-AAD1AF98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4D4D-F834-4381-BB15-08863B8B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64207-8253-4A90-BFBE-307E97E6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CAD69-73D2-4729-BFD8-3AACB9FE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98609-E5E1-47B4-BA81-3B2F6D9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0FC5C-7B3B-4549-9BA2-9C8663A2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84C87-17EF-4AF1-B064-E3C2CDED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1819D-6A23-478A-A3E3-5F3BD7B7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EC61F-4E72-4244-A488-4E676CFB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83ADF-7175-4E3B-AB7A-C3DC0956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D8612-4622-4F5B-8741-212FD4D0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D28-9EBE-448B-A655-D3598595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CB6A5-8E67-4EF9-B0E1-94EC9BFF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F3754-10B3-4AF1-A267-65E88689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5FEFE-8E42-4909-9FFE-A37B3C9C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B1A98-000C-4925-8BC2-875D44B8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F4049-971F-42D5-9747-0FBD9AFF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C414E-FE8D-4E28-BDB7-624BDB57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00A54-C2C4-42A1-9D05-CE8958A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7F981-EEA8-4436-9F2C-8C31DC1D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8DACF-98FB-434B-A4C5-8859CADA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4B0E4-42A1-44D4-8D9B-F164359E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4FB-E476-444C-8745-E11D9601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4A3BF-535E-499E-8B68-48F8CD90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8488D-B8A3-4F68-BF4A-54B3E1A9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F2381-ED60-4F1D-A1BF-7242E9D5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9055B-2E9A-463B-9C5C-070907B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BC239-D83E-43BA-92F5-6DE61889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4BF1D-AA59-49C1-B156-63E477E9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673B5-882F-4347-9E92-40201334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408C4-8381-4400-AEAD-BDAE836A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6E861-BDD8-4E2C-A0CD-1B6DA128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BE7CD-41DE-494A-96A7-7493A7D9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F892-0E07-4327-93C4-0A4D5530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878AE-DE5D-4F7A-B040-37B76E28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4985A-CF3D-438A-A915-590852E1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86250-2C52-4201-8117-2C825A1D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F9AB4-B0EE-416B-BC55-1186BC9D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C775E-FD39-4275-BFD4-9A483264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766AD-6CCB-4020-8151-0392ED07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370C4-E47E-4F41-A6A6-CF23BE0C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2E842-35F3-4D6F-AC11-50B68127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3100F-0CF8-41BE-A2C1-2C77A3B2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69BB0-9911-4385-98DF-3C9702F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C219-57DC-4A6C-9E3C-702646A2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1E691-8E41-43A9-A8FC-438BADF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DA8A4-A9B6-4BD8-9AFC-EEF7C11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25E80-BCAC-4A3C-A0B3-D935B475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8BE70-3D74-4508-A815-026FD9E3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B8341-A99F-4316-A50F-91A6DC14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79AA6-3506-40D6-A605-CCDF5825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C8879-90A5-4BBF-B5AC-4B6450AA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FE012-697B-41EB-A7B9-1802238F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0BB5F-101F-4C69-BE6E-8AD993D3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4235F-537D-49C9-A115-40EE79A0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C6D7-8BA8-4334-BA2D-9E69ADBE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8D1BA-3ACC-40BC-A1C7-2D37A3E8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FAED3-A741-4E41-8A99-CC50F84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0C3EF-A9CD-4B41-96A3-8FD1C44E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09B04-07DC-4D66-9600-7A7DBF12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0D93A-1E42-4824-9C7E-52E6925C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7BA2A-E5E0-40D6-8333-39B8FE74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20742-A49E-4AC6-A08A-0D9DE2B9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8568D-5F6B-4F8E-BF7D-1980F1A4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AD703-9DCB-460B-B476-1FA47660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ECF12-E73F-4B40-9481-50053145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7DA7-A8DF-45D6-85F5-27C66C65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2CBF7-F056-4297-B6E3-6C4F9B44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5F58F-3112-48D7-A4BB-0BFB099E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2F6BC-4D40-46D9-86AF-047356E3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ECA49-0563-4139-A4A2-61AF05A2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F7076-D57B-4B6A-89D2-6898B9D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1A5D6-BA28-4814-A9CF-35D66FA3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33064-7F19-41DA-B9BD-58EC7441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5DEAA-00FE-41A9-8088-520616EF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F92E6-2063-42F3-9361-90FDB3B6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619D9-9646-4808-B382-C69C5B27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69E9-569B-455E-B096-E0BF308F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A516A-A417-4FF7-B6F0-650F573A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BF635-FF19-4F79-9313-FAAE4C2A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14A66-7BC5-48EA-BE02-7C6083AB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3619B-DA06-41E2-8CF1-EAB29FF3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A055D-75FF-4E06-9160-9C1081D1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BE3A7-5594-491D-B7FB-35D9EE6A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0AA67-6D10-4E27-97C1-AED14883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2BEEB-BA5E-4999-BD29-A2EAE037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ED730-CC10-4F2C-BA1F-9509ECF8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FE4F5-E964-4F4A-AE73-5174562A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163A-B292-41EC-AF6E-80D9B9DC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026089-F59B-4987-B7A6-F13118B3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8FE27-4296-4734-A4C0-4B9AF2C6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3A839-4665-4A5F-9B04-4D092E9B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C4809-FF3F-4215-B82A-C3A4A11C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D4F6B-2F93-4838-A615-BBE1701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0FDDC-277C-4F7C-9BE8-506DA791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DDC6D-32C0-47C7-91B3-82B5CF11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C0758-5B76-4778-AD33-DDAF8F3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5C4D7-5121-4BDF-BA5C-78F64457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A231A-7165-4816-A177-CF493BF7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3BAB-C4E7-4FE2-B5E7-EFB1B038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24024-C8F2-4D56-8263-C9886730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CF825-E76D-4F08-997B-375630C0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82E0E-47F9-435F-AA80-7B819DD7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9AF62-33F3-4D98-8E3C-1FCFEE2F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F2B2D-332D-41AB-8BED-7A0A74B8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7513D-CE60-486D-AA78-DDBEB443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CF9C5-A802-4149-B0C3-340C2F87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84FFD-5D90-4A31-B5E1-80EF53EA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78112-F364-4085-9578-453C8854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55E50-92AD-4CF1-8488-A3469E1D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78F-7521-43A7-88E8-E815FBEC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A31C-E62D-46DE-BEC9-D759DCAD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D8A25-6531-4487-BDE5-C945B74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75E09-DFA0-4F34-91BF-B7B6B72B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9ECB3-EB3E-4DB5-AE0F-BD00663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37ABE-3C71-4C46-BE62-EC8ADD63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5DB77-63ED-4E4C-98DD-651BF6D4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0E4D19-630D-4B06-9B43-40F75F21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CAA96-3D33-46E0-B656-4ADCF21E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540B7-E50A-4D94-AF62-1B134958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374F6-4D40-4194-BD72-4A1A156B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7796C-A4E2-4CE0-9883-6A4E6769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1E42-0D5C-4AD1-84CB-2B1EFCF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5970EE-D288-4C0A-B8D9-8A5FB746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1E57D-925D-4243-9761-8CD458B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F2653-190B-419F-93D0-A64060D0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9D1CE-5559-483E-9DF0-B2E9A5DB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CAD72-D0E5-41B3-BC32-37D08A11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7173C-EB94-4A30-908C-BEA70A91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3D5CA-37F3-46B2-B5C1-054FB17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ED289-8967-43B5-AB60-18169674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A2814-A520-4141-9AA6-4FD64AB1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FF42D-BBDF-4AD3-9BFB-F7BE890C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BC74-8E4D-42D9-AAD4-04DD5F77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9E7DF-1DF2-4851-A02B-3B5C4069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1AB7C-B427-4170-9504-C757F99C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584F1-6BB7-44D5-ADF9-FAC4AC41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77007-E863-43B0-A37E-3E40B418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FF276-1E3C-4101-8810-B6E36F58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CE4D2-F20F-4DF1-81D4-D292DF8D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E29B5-5CB5-4EE4-9E39-2A8EA228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A5B3EC-4415-4AF6-84B6-5B9A6CDA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E44D8-E86F-40DA-9C7C-A35EFB4D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99465-C584-4D8B-9EAD-4F8830C7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21AF-F489-404E-AB80-64B85A08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DFD2C-7B56-4D44-A723-A1747F8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BDE62-B4BA-4FFE-A084-65C8D9A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16287-5339-4638-BA52-0F77CEAD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2C2E7-F0AD-45E9-9697-00DA344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86E55-F6FD-4FE1-8E21-8EA85FC9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803ED-14AF-4C5A-9B17-6527AC0D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5B73A-6F34-4E20-AFAB-32B8867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7DF02-EFF0-4326-A366-D3D3997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F6FB1-F7CE-4171-BBEB-9AC2601A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327574-0CC1-4446-B99F-70B2C3A7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A059-28B2-43EE-AD53-1784FF61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11A2D-08D1-4F0C-9672-A7CE34F3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683E9-272A-428B-8DEB-C34DAB04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D26FF-E1DA-4F02-8810-4BADE837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F2B1F-D761-4A32-A7D4-E77D01B6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E98943-16C6-4D0D-BCD3-E035C82B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D0AA8-A56B-441E-B2D1-6C28FE8B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BE3CC-4E8F-47F2-884B-54216460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F8951B-8931-45C9-B3F6-0E328A5B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01B20-A19F-42A9-847A-685D122E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D69AE-791A-4459-99D8-2AA276E6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BF8A-25D6-4DFA-B96A-4BF0B15E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6533F1-8189-4CEE-ADBC-6D69B3B2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B7447-CBC0-4202-984A-194C3B3F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431C56-5D2D-48E4-B9FE-E735932B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16C7-7066-44A9-816A-F7E441A4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1470-B5EA-450D-B4C1-0D50037D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8553-A1CE-4FE2-A3D1-0FF7E85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F5DD-ED70-4C3A-AC86-0248C441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C5C-E676-45D4-A5AC-92A8E149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1568-11EB-4ED4-8632-BEFC9A05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D9F0-6C74-47AE-991C-B7C8672F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8641-8433-4610-82F7-12621C2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9095-CA33-453D-96E9-1741C3AD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0B30-DCFD-4F32-B4BC-7CA81F67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B1D1-454A-4139-A0C6-DFEC483B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FF4B-16CD-48FC-A8B6-BBF1B37F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0EBE-FCF1-40C5-A3A6-B2412EA2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66F9-472B-4167-9CAC-DC29E56F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AD634-7296-4A61-B737-A5E3DF09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A85-F376-435A-BBD6-3C8C0627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3B4D-9B06-43D0-8037-9B3399BE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5EF8-49DF-4523-B83D-2CCD790A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28D8-3485-4A72-B87F-213D432A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35C52-A18D-490C-8CE2-AC01D10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749E-3906-4F75-B616-A703A430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CE5D-F145-4A23-BEFA-C75F224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6F52-C30C-4AA6-ADE9-3B32FFE5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F09E-3024-464E-969C-B4F0303A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64B07-D8DB-4E3A-A0EB-807E61D9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9C15-9CFA-411F-A0E0-1051AAE8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33D-7B10-4323-AEF5-556472F9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6CD7F-D304-4048-B795-3965AAB4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D9CFE-5849-477C-8631-0AB36A01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8E2A4-01E1-428D-80FF-4685377E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52A33-F4DE-4B24-A4C8-D7E4E91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509AF-78A5-48F1-9061-35AE9D58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912A0-ABC5-412C-83A3-97184E31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29C40-1647-49B6-A9A1-862C06E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2E65A-F1C7-46D3-B0E5-F9A29FEF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77E9-E83E-4FD8-A172-8649F192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0CD6-62B8-4A71-8E78-BD184E87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05E-36DF-42BF-92EE-557452DD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B1FD0-AD3B-46E3-9D99-A31B51D3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7EF74-745C-4303-890C-6A6D8BEA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A94DC-ACA2-4D8A-B7B3-40FFB416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84DD4-5A76-43A6-A4EE-5C48543F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A9E47-3345-4AD0-8882-000F3CAA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16AAA-AE4F-4AEB-86B2-044E8B3A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B16EB-57CD-48AB-B12A-B0ECFF02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80B78-27DB-4E26-9C70-62FC70D7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25D4-DB31-4204-B361-AD252739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517CC-F9F4-4B46-8F76-EA174A4C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6E4-DCAE-427D-AB4A-4243BE4D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EFF9D-03AA-4FB6-9EFC-382ABB8D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2F29C-DA5E-4E43-A6E7-FC69F468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A315E-B4B3-4D02-ADFF-44BD602A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71CB2-1C2A-4ABE-A8DE-194B2544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4A528-7C0A-4AFD-B29E-30E54F90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EE37-7174-43C8-ADE4-E7CE6FF8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462A-9B18-4F55-9DE6-80E77050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CBB86-47AC-42F6-B3AB-52E67C64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46C9C-0814-41AC-A4AE-6511A4F0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18F87-9823-4FBF-A22F-4E50749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AB8-72ED-4BEC-8B80-C078D08E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1BD64-868E-4208-A971-A69D9DA4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4C69F-91CE-43C7-8F50-6D9F3576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04143-81D2-4FD2-92F8-52EFB15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7EC6-191D-4EEB-BD9A-63FD463A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DADFE-D348-4C5A-8FEA-BBCF7A0F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3A4CF-D49A-4A89-9D23-EFC63FF7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41D82-D6B7-4B5A-8315-36F318E4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5CF65-5E47-491E-9A2E-DA377372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96866-6201-4D8F-9877-46394B9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C39BF-C58B-4A2C-BD3E-701D60CE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F6C-46F6-4AE5-82C7-C827718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217E9-C81A-4494-8C32-D95D91CF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CCA7B-1BBB-4DDA-BD8E-7AFB8C5C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D7906-2A57-4538-9CB1-F0FC8E83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E95F9-E0B4-4427-B2EA-28B14676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FB78D-215C-4ABF-A2E8-9ACE0CED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C7882-BA7A-401B-8BD7-032C2370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D18A-F0E2-4918-B9FF-5B29D8EC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0D6C3-DDC0-490B-98D8-626F29BA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C326A-5376-497C-9918-FFE76DC6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690C0-A678-47A3-9CE1-C4332277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D8F1-A519-4661-9BB3-B89EC9E10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D496-2C30-4A5F-942C-7470629CD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1A2C-649A-489D-91B9-08541445E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A760-8EC5-4209-AC89-69FEBBC13C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0E86-9A4D-448B-99AB-98ED13BDB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63B2-3DF5-43E5-83EF-EE1FEFDE5F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E525-7849-426C-96FF-E40FD6A419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E1DC-2F34-4044-BDA7-C959803BE2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CD4B-3E25-48F4-B320-F44BCBF25B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DA27-DEDB-42A8-A979-331AC254A8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BD8E-4A74-49B2-AC67-2ABA6A1AE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1DD4-9E80-482C-8C39-7A2E75EF4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586C-69B0-4787-8215-074A43DDA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4957-45C5-428B-852A-9258941B1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7353-119B-4548-9CBC-A9E2821FA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3CE5-377C-4D54-9B34-AC7CCB113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532C-6BE2-4240-836D-955C63B48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BF0D-8104-49CA-A576-30C1153E5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CB6D-C8B0-4729-B97F-1C7E7F497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734-F67D-4655-9D0C-FD8713D61B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B148-3951-4256-9E16-CFB469F55D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14FC-D063-4D4E-BAF6-2EE03AB91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4C93-62BD-4F14-AE45-9154E9B82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5A27-5D18-4FAD-B0B1-529C05CDF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9362-59A2-430A-89B4-79C0C811C4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4DBC-4164-4F24-ABAC-5C8F55A5B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777F-1841-42EF-900B-5CFE40264A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C1C2-C396-4AFC-A2E7-55CDC9979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139D-D9F8-4144-A80D-F4615FD0F0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CF16-A850-4EFB-A126-251AA47509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4A50-A293-4080-8ACD-7A177658D7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DC38-F0FD-4638-A052-FC9F243196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3E5-D743-4564-8621-850507EBA9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A947-3A08-4F98-BD3B-3E42B11B3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14DD-6773-4864-A618-4642325E0B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9E8-E098-4DB4-8D0C-98F8A398B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24DC-9CEA-4D0F-8499-735A8E658F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AB4E-0651-471C-84C8-2EBDB4884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62B9-60F3-48CB-B8EF-57C538F6A0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CCE-C816-474D-B632-7EF41F3F8D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62200" y="3143160"/>
            <a:ext cx="38196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3" descr=""/>
          <p:cNvPicPr/>
          <p:nvPr/>
        </p:nvPicPr>
        <p:blipFill>
          <a:blip r:embed="rId2"/>
          <a:stretch/>
        </p:blipFill>
        <p:spPr>
          <a:xfrm>
            <a:off x="128520" y="1266840"/>
            <a:ext cx="8885160" cy="4324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76360" y="2997360"/>
            <a:ext cx="64764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492360" y="2997360"/>
            <a:ext cx="64800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580000" y="2997360"/>
            <a:ext cx="647640" cy="320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8172360" y="2997360"/>
            <a:ext cx="647640" cy="320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274760" y="34574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3218040" y="34574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5925960" y="3457440"/>
            <a:ext cx="87804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7812000" y="34574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841320" y="509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2857680" y="5084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395280" y="811080"/>
            <a:ext cx="8353440" cy="5426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189080" y="2143080"/>
            <a:ext cx="474480" cy="422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187280" y="270828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187280" y="321300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187280" y="371628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187280" y="423540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1187280" y="531504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1187280" y="5834160"/>
            <a:ext cx="47484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380880" y="2395440"/>
            <a:ext cx="838224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24:10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